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8E70-D61F-40E1-A112-F4FC9B6D07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icture: Birzeit University, Pal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 beliefs: how patients access services, participate in treatment decisions and their social context all influence the management of chronic conditions and are important for health outcomes (Saks &amp; Allsop 200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review of the relevant literature is also being undertaken, to set the context for this piece of work re: the health policy, health interventions and epidemiological work in the 4 partner countries plus Egypt, Jordan, Algeria and Moro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9CCA-BFE8-4213-9CBB-DE9A49B9E9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E9C0-D40A-4474-900E-F78406DAE81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E83-074D-4F61-B355-5185A0C6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C15-B110-45ED-93E6-796EDDC9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D948-409C-4C19-850F-7DFD0C04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1BF-5D23-4134-A85D-EC762570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3C13-C07C-44C3-B5F5-6F4E14AE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7A35-08CD-4AFB-96D8-C023D58E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3CE1-53DF-4506-82C0-DF1CB7BA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2F04-DC84-4A73-BFEA-6CC8F3D8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AFE8-9DF9-4CD5-B424-DE640585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C181-BEFF-4ABA-BC22-AFC1D1D0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7422-5594-41A1-A172-8F64877B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FE4-873A-466F-BE3A-D61F0A30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127E-4417-47C7-A70F-0F547E90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7AF8-71D5-47F4-BA71-E22167D4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B3D1-E954-445E-ACF2-F24A010B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0B20-2942-4ECF-AD6E-050E513C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DE0B-CAB0-4ACE-8AAA-B7629496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5D958-3160-438E-8EFD-253D9264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18CCB-740F-4D3B-BA82-75B7B743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50A29-DA14-4296-A945-9BBB14CF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2C4F-26E4-4A01-BCF0-BEEC72CA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BD92-4411-40BC-8D92-B17682E0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243-7F50-4493-9DEB-889078C9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16FB-2CB9-47B4-B041-740B065A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57414-A200-41A6-9C77-CF2EF2B4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38CB9-07FD-4055-9024-EA3FD97E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4C13-6DF6-4654-BEBC-01CCDF29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2F720-5A19-4B94-A8B3-5DB8585B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8FCBB-95D0-4141-96CC-F480BD3A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314D8-5E39-44AE-8D5E-D98AD177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20EB1-707B-402C-87C2-1F49437D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2EC0D-C0BC-40B5-9993-791DADA7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B482-9218-4470-9924-0CFD5E03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7D9-85D9-48DE-BCFA-5AAFC427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7656-2FDB-4AF8-9E1E-FE7FDB40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8529C-DD68-460C-87B9-EED89538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1C197-EA08-4CA4-BC65-E7BFD86A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05FFD-8C6F-4341-92A9-A3CFEC95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94CC0-DA8C-410B-8EA0-5DE12F73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F757A-8D4F-4A39-BCAE-118C332A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88423-C479-43B5-A719-1D5B0C7D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A161-5ECA-40C9-8142-6905DD37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DEC77-C5B9-4EB0-9E4C-1931FE33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0E52E-22B3-4220-92FE-A5332BF0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329-3470-4E17-9A51-3D1F2953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F2CD0-2384-48BD-AEC6-CC6E9155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D9734-0FF2-46C2-9BBB-12CFF657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8242A-0CCC-44CA-9544-C1425ED1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7A5A9-4964-47D0-B439-57C123DF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429C3-AB0B-4287-AD11-044AD5F5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61BEB-3107-4016-89ED-179D0975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32138-6FFF-4B24-A0AA-16A6C288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82067-8440-4123-9043-59BD6530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EFA84-C6ED-4152-8393-E18C8762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5ECFA-35E6-4229-A4CF-F47EDD57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E1A-F896-42D1-9718-B1C79877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C2E5B-7504-4E4B-A4E3-A439FA13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02031-79BB-42E3-8ED4-EDEF3181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25FE4-4F16-4483-B04C-FDA45527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3766C-2C41-49E4-9627-036C39C2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8F8BE-D5ED-48D6-9B9E-90D55EF9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247A2-974E-4F94-AB90-C4C9D2A1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11413-7C0B-4867-B8A8-2998960B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1678D-4AB2-471C-8609-33868E71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A322D-607F-492E-8FD8-D3C35346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096AB-EBC4-415D-97C9-7E31A080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B9B-8CCF-4B2A-B76F-DC14FC8B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93B1B-24B6-4DB1-BF67-24B00EAE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A88D2-5785-454C-A12C-8AC7BD7D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B6883-AE3D-4A38-B2E2-4B7303AB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CD596-A40B-4CD8-999B-594D6EAE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291E4-BEAC-4E69-ADDF-50730A80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248DA-E7D5-490F-8270-69F73328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E5E10-9A3F-4353-B5CE-530365B7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4CF14-EB5D-45C4-AB2A-98AC0F43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A720A-827F-4725-9B47-02E7F95D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48F1E-4D57-4D86-B1C1-BF4F54FE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5FA-BA51-41F5-AFE1-14161170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FC2A8-EEFA-4F3A-96EB-63F160A8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796FB-9C95-43E0-B8DE-9C9EBD0C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A548D-FF85-4C00-A9B5-B226B474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69D07-4ED6-4AEB-B632-863D9E4D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3D3A0-7145-41AC-A6CF-C97544C9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D12-AEF2-47C3-8B6B-177A8282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3717-E592-4675-BA41-F377A1E94D1D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F03E-BC67-4C6F-BDF1-9DF8C78DE52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6CC0-1EBB-440A-90B3-E26710A586B0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5819-7D58-4965-9256-C88A8B545FAD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FBE1-C696-49C5-B101-9F010C4C0316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2271-FBEF-433D-9DB1-9A20F6D73A59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263A-E34F-4331-8567-356A1C00074C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Health Policy Analysis Conceptual Framewor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Diagram 1" descr=""/>
          <p:cNvPicPr/>
          <p:nvPr/>
        </p:nvPicPr>
        <p:blipFill>
          <a:blip r:embed="rId1"/>
          <a:stretch/>
        </p:blipFill>
        <p:spPr>
          <a:xfrm>
            <a:off x="0" y="109440"/>
            <a:ext cx="903456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Diagram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agram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643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1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 Example of using Policy triangle framewor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editerranean studies of Cardiovascular diseases and Hyperglycaemia: analytical Modelling of Population Socio-economic transitions </a:t>
            </a:r>
            <a:r>
              <a:rPr b="0" i="1" lang="en-GB" sz="2400" spc="-1" strike="noStrike">
                <a:solidFill>
                  <a:srgbClr val="ff0000"/>
                </a:solidFill>
                <a:latin typeface="Candara"/>
              </a:rPr>
              <a:t>(MEDCHAMP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veloping a CVD and diabetes model for use within the project countries, in order to explain trends and predict likely future impact of diseas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fining the national policy context and characterising the health system for developing  policy options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MEDCHAMPS objectiv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www.birzeit.edu/files/la/17240/pic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25280" y="-200160"/>
            <a:ext cx="9262800" cy="7058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ituation analysis (1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334120" y="406872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160020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1600200" y="4383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belie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181480" y="22795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581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3352680" y="3800520"/>
            <a:ext cx="1600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Qualitative data from ke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5334120" y="342900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600200" y="247824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poli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5334120" y="4724280"/>
            <a:ext cx="167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Opportunities for implement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391520" y="3790800"/>
            <a:ext cx="1523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orms policy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228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Analysis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eft Brace 15"/>
          <p:cNvSpPr/>
          <p:nvPr/>
        </p:nvSpPr>
        <p:spPr>
          <a:xfrm>
            <a:off x="1295280" y="28195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904760"/>
              <a:gd name="textAreaBottom" fmla="*/ 18968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Straight Arrow Connector 17"/>
          <p:cNvCxnSpPr>
            <a:endCxn id="375" idx="1"/>
          </p:cNvCxnSpPr>
          <p:nvPr/>
        </p:nvCxnSpPr>
        <p:spPr>
          <a:xfrm flipV="1">
            <a:off x="3047760" y="2469600"/>
            <a:ext cx="533880" cy="425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84" name="Straight Arrow Connector 20"/>
          <p:cNvCxnSpPr>
            <a:stCxn id="375" idx="3"/>
            <a:endCxn id="374" idx="1"/>
          </p:cNvCxnSpPr>
          <p:nvPr/>
        </p:nvCxnSpPr>
        <p:spPr>
          <a:xfrm flipV="1">
            <a:off x="4724280" y="2463480"/>
            <a:ext cx="457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Elbow Connector 25"/>
          <p:cNvCxnSpPr>
            <a:stCxn id="376" idx="3"/>
            <a:endCxn id="379" idx="1"/>
          </p:cNvCxnSpPr>
          <p:nvPr/>
        </p:nvCxnSpPr>
        <p:spPr>
          <a:xfrm>
            <a:off x="4952520" y="4262400"/>
            <a:ext cx="381960" cy="106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Elbow Connector 28"/>
          <p:cNvCxnSpPr>
            <a:stCxn id="376" idx="3"/>
            <a:endCxn id="377" idx="1"/>
          </p:cNvCxnSpPr>
          <p:nvPr/>
        </p:nvCxnSpPr>
        <p:spPr>
          <a:xfrm flipV="1">
            <a:off x="4952520" y="3612600"/>
            <a:ext cx="381960" cy="64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Elbow Connector 31"/>
          <p:cNvCxnSpPr/>
          <p:nvPr/>
        </p:nvCxnSpPr>
        <p:spPr>
          <a:xfrm flipV="1">
            <a:off x="4952520" y="4242600"/>
            <a:ext cx="381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Elbow Connector 34"/>
          <p:cNvCxnSpPr>
            <a:stCxn id="377" idx="3"/>
            <a:endCxn id="380" idx="1"/>
          </p:cNvCxnSpPr>
          <p:nvPr/>
        </p:nvCxnSpPr>
        <p:spPr>
          <a:xfrm>
            <a:off x="7009920" y="3612960"/>
            <a:ext cx="381960" cy="64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Elbow Connector 37"/>
          <p:cNvCxnSpPr>
            <a:stCxn id="379" idx="3"/>
            <a:endCxn id="380" idx="1"/>
          </p:cNvCxnSpPr>
          <p:nvPr/>
        </p:nvCxnSpPr>
        <p:spPr>
          <a:xfrm flipV="1">
            <a:off x="7009920" y="4252680"/>
            <a:ext cx="381960" cy="107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Elbow Connector 40"/>
          <p:cNvCxnSpPr>
            <a:stCxn id="371" idx="3"/>
            <a:endCxn id="380" idx="1"/>
          </p:cNvCxnSpPr>
          <p:nvPr/>
        </p:nvCxnSpPr>
        <p:spPr>
          <a:xfrm flipV="1">
            <a:off x="7009920" y="4252320"/>
            <a:ext cx="3819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Elbow Connector 46"/>
          <p:cNvCxnSpPr>
            <a:stCxn id="378" idx="3"/>
            <a:endCxn id="376" idx="1"/>
          </p:cNvCxnSpPr>
          <p:nvPr/>
        </p:nvCxnSpPr>
        <p:spPr>
          <a:xfrm>
            <a:off x="2742840" y="2800080"/>
            <a:ext cx="610200" cy="1462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Elbow Connector 49"/>
          <p:cNvCxnSpPr>
            <a:stCxn id="373" idx="3"/>
            <a:endCxn id="376" idx="1"/>
          </p:cNvCxnSpPr>
          <p:nvPr/>
        </p:nvCxnSpPr>
        <p:spPr>
          <a:xfrm flipV="1">
            <a:off x="2742840" y="4262040"/>
            <a:ext cx="610200" cy="44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Elbow Connector 53"/>
          <p:cNvCxnSpPr>
            <a:stCxn id="372" idx="3"/>
            <a:endCxn id="376" idx="1"/>
          </p:cNvCxnSpPr>
          <p:nvPr/>
        </p:nvCxnSpPr>
        <p:spPr>
          <a:xfrm>
            <a:off x="2742840" y="3752640"/>
            <a:ext cx="610200" cy="5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itle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Translating recommended interventions to different cultural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bjectiv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Using established schematic frameworks of potentially effective policy measures and health system interventions for the prevention of CVD and Type 2 diabetes in order to guide data collection and analysi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Identify, collating and systematically reviewing all relevant documentary materials on policies and health services provis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National situation analysis of current policy and health systems contex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perception and knowledge of relevant national policies through interviews with key informant from relevant organisations, including government, the health sector, private sector and non governmental organizations (including patient group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health beliefs with potential target groups, and determining whether these differ by population group.  Including by gender and socio economic group.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"/>
          <p:cNvPicPr/>
          <p:nvPr/>
        </p:nvPicPr>
        <p:blipFill>
          <a:blip r:embed="rId1"/>
          <a:stretch/>
        </p:blipFill>
        <p:spPr>
          <a:xfrm>
            <a:off x="324000" y="2676600"/>
            <a:ext cx="8648640" cy="344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Candara"/>
              </a:rPr>
              <a:t>What does a health policy analysis involve?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. Situation analyses of current policy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National/Regional/District overview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B. Health system context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Local orientation alongside the national orientat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Two focuse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The project therefore envisages appraising existing situations in partner countries on three different levels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Diagram 2" descr=""/>
          <p:cNvPicPr/>
          <p:nvPr/>
        </p:nvPicPr>
        <p:blipFill>
          <a:blip r:embed="rId1"/>
          <a:stretch/>
        </p:blipFill>
        <p:spPr>
          <a:xfrm>
            <a:off x="66600" y="1395360"/>
            <a:ext cx="9083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481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1: Situation on the level of conceptualiz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Diagram 1" descr=""/>
          <p:cNvPicPr/>
          <p:nvPr/>
        </p:nvPicPr>
        <p:blipFill>
          <a:blip r:embed="rId1"/>
          <a:stretch/>
        </p:blipFill>
        <p:spPr>
          <a:xfrm>
            <a:off x="249120" y="1908000"/>
            <a:ext cx="87235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349360"/>
            <a:ext cx="7408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national policies, strategies, health systems and  financing concerning CVD and diabetes, including policy relevant to smoking, diet, physical activity and alcohol use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Relevant documents on pricing and taxation, agricultural and transport policies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policies regarding national and local health service provisions, prescribing , prevention and risk factor management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National and international guidelines on policy measures and health care structures and interventions developed by WHO, World Bank, World Heart Foundation, International Diabetes Care Interventions.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Document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547040" cy="3475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2: Situation on the level of Awareness and Commitmen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mplementers and practitioners fro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Govern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rivate sect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NGOs at national, regional, provincial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mmunity leve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Key informant interview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537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3: Situation on the level of practi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atie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are givers, medical practitioner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ccessed through sample of health care facilities in (a) urban and (b) rural setting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 : In depth interviews, Illness narratives, Observations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Merson, M., Black, R., Mills, A. (Eds) (2012) Global Health: Diseases, Programs, Systems and Policies.  London: Jones &amp; Bartlett Publisher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Ostrom, E. (2007) Institutional rational choice: as assessment of the institutional analysis and development framework. In Sabatier PA (ed)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Theories of the policy process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. Boulder, CO Westview Press pp 21-64.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Walt, G. et al.  (2008) Doing’ health policy analysis: methodological and conceptual reflections and challenges. 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Health Policy and Planning 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23:308–317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Referen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Diagram 1" descr=""/>
          <p:cNvPicPr/>
          <p:nvPr/>
        </p:nvPicPr>
        <p:blipFill>
          <a:blip r:embed="rId1"/>
          <a:stretch/>
        </p:blipFill>
        <p:spPr>
          <a:xfrm>
            <a:off x="12600" y="115920"/>
            <a:ext cx="90345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Content Placeholder 3" descr=""/>
          <p:cNvPicPr/>
          <p:nvPr/>
        </p:nvPicPr>
        <p:blipFill>
          <a:blip r:embed="rId1"/>
          <a:stretch/>
        </p:blipFill>
        <p:spPr>
          <a:xfrm>
            <a:off x="865080" y="1914480"/>
            <a:ext cx="7425000" cy="4211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onceptual frameworks provide a particular perspective, or lens, through which to examine a topi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Frameworks organize inquiry by identifying elements and relationships among elements that needs to be considered for theory building. </a:t>
            </a:r>
            <a:r>
              <a:rPr b="0" i="1" lang="en-GB" sz="2400" spc="-1" strike="noStrike">
                <a:solidFill>
                  <a:srgbClr val="073e87"/>
                </a:solidFill>
                <a:latin typeface="Candara"/>
              </a:rPr>
              <a:t>( Ostrom 2007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framework helps to contextualize the ‘</a:t>
            </a:r>
            <a:r>
              <a:rPr b="0" lang="en-GB" sz="2400" spc="-1" strike="noStrike">
                <a:solidFill>
                  <a:srgbClr val="ff0000"/>
                </a:solidFill>
                <a:latin typeface="Candara"/>
              </a:rPr>
              <a:t>health policy environment.’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4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8680" cy="55659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Three major health policy analysis framework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772400" cy="4707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Policy Triangle Framework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4:26:51Z</dcterms:created>
  <dc:creator>nsz4</dc:creator>
  <dc:description/>
  <dc:language>en-US</dc:language>
  <cp:lastModifiedBy>User</cp:lastModifiedBy>
  <cp:lastPrinted>2013-05-28T10:45:51Z</cp:lastPrinted>
  <dcterms:modified xsi:type="dcterms:W3CDTF">2013-05-31T23:38:47Z</dcterms:modified>
  <cp:revision>21</cp:revision>
  <dc:subject/>
  <dc:title>Health Policy Analysis Framework</dc:title>
</cp:coreProperties>
</file>